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F55-0F6A-4EF9-AA29-8F571562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386-9532-4116-9360-7869D9D8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986-BA1C-49EF-8BBC-8948311D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C5F-DD35-4667-B48E-B4B0B6BD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1D8-1B3F-4488-A839-D4A714CB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930-84A6-4B51-9934-9BFFE9AC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AA5-BDEA-4EC4-9ABF-512E120E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1FC-BE13-4D8B-8E6F-9399084D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21E-53BC-4FAF-A99E-3EF8B06F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D32-0D88-4930-9D70-7BB6207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45E-9D11-4D31-8A63-6F66C3C2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6FC-0239-40C0-9DB3-01169EAF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F24F-31B3-4E15-8610-C1A5A110F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М"/>
          <p:cNvPicPr/>
          <p:nvPr/>
        </p:nvPicPr>
        <p:blipFill>
          <a:blip r:embed="rId1"/>
          <a:stretch/>
        </p:blipFill>
        <p:spPr>
          <a:xfrm>
            <a:off x="388764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9243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Тема Родины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 в творче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bat"/>
              </a:rPr>
              <a:t>Михаила Юрьевича  Лермонтова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0" y="107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292720" y="827280"/>
            <a:ext cx="34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Стихотворение положило начало цел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_FuturicaBs"/>
              </a:rPr>
              <a:t>литературной традиции</a:t>
            </a: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. В русской поэзии утвердился жанр лирического раздумья о родине. Мысль о России стала нерасторжимой с образами деревни и природы. Лермонтов первым увидел берёзку как символ России </a:t>
            </a:r>
            <a:endParaRPr b="0" lang="en-US" sz="2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55640" y="522900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стихи Есенина, К.Симонова, Рубцова, обращают внимание на репродукции картин  Левитана, Куинджи </a:t>
            </a: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4654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0" y="1071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Над чем заставили задуматься стихи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М.Ю. Лермонтова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и сегодняшний урок?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185e18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«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Люблю Отчизну я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но странною любовью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М. Ю. Лермо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Elizbarova\Рабочий стол\САВРАСОВ.jpg"/>
          <p:cNvPicPr/>
          <p:nvPr/>
        </p:nvPicPr>
        <p:blipFill>
          <a:blip r:embed="rId1"/>
          <a:stretch/>
        </p:blipFill>
        <p:spPr>
          <a:xfrm>
            <a:off x="0" y="0"/>
            <a:ext cx="4822920" cy="33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Elizbarova\Рабочий стол\savras-1.gif"/>
          <p:cNvPicPr/>
          <p:nvPr/>
        </p:nvPicPr>
        <p:blipFill>
          <a:blip r:embed="rId2"/>
          <a:stretch/>
        </p:blipFill>
        <p:spPr>
          <a:xfrm>
            <a:off x="4233960" y="3309840"/>
            <a:ext cx="4910040" cy="354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Elizbarova\Рабочий стол\саврасов2.jpg"/>
          <p:cNvPicPr/>
          <p:nvPr/>
        </p:nvPicPr>
        <p:blipFill>
          <a:blip r:embed="rId3"/>
          <a:stretch/>
        </p:blipFill>
        <p:spPr>
          <a:xfrm>
            <a:off x="5000760" y="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Elizbarova\Рабочий стол\саврасов 3.jpg"/>
          <p:cNvPicPr/>
          <p:nvPr/>
        </p:nvPicPr>
        <p:blipFill>
          <a:blip r:embed="rId4"/>
          <a:stretch/>
        </p:blipFill>
        <p:spPr>
          <a:xfrm>
            <a:off x="214200" y="3571920"/>
            <a:ext cx="391968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Elizbarova\Рабочий стол\шишкин.jpg"/>
          <p:cNvPicPr/>
          <p:nvPr/>
        </p:nvPicPr>
        <p:blipFill>
          <a:blip r:embed="rId1"/>
          <a:stretch/>
        </p:blipFill>
        <p:spPr>
          <a:xfrm>
            <a:off x="0" y="357120"/>
            <a:ext cx="44053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Elizbarova\Рабочий стол\shishkin.jpg"/>
          <p:cNvPicPr/>
          <p:nvPr/>
        </p:nvPicPr>
        <p:blipFill>
          <a:blip r:embed="rId2"/>
          <a:stretch/>
        </p:blipFill>
        <p:spPr>
          <a:xfrm>
            <a:off x="0" y="3786120"/>
            <a:ext cx="442908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Elizbarova\Рабочий стол\шишкин 2.jpg"/>
          <p:cNvPicPr/>
          <p:nvPr/>
        </p:nvPicPr>
        <p:blipFill>
          <a:blip r:embed="rId3"/>
          <a:stretch/>
        </p:blipFill>
        <p:spPr>
          <a:xfrm>
            <a:off x="4467240" y="0"/>
            <a:ext cx="4676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Какая из формулировок точно отраж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тему стихотворения «Родин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странности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7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 З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еречитайте стихотворение М.Ю.Лермонтова «Родина». Какие детали деревенского быта присутствуют в стихотворении? Обведите их в кру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йдите слова, передающие краски и настроение. Подчеркните волнистой лин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следите за настроением поэта. Слова, подчеркивающие настроение выпишите на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йдите официальные патриотические понятия о Родине в стихотворении. Выделите эти образы в квадраты. Какое к ним отношение автора, подчеркните эту ф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ая из формулировок точно отражает тему стихотворения «Родин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йдите в стихотворении композиционные элементы рассуждения тезис, доказательства, вывод. Выделите фразы (Т-Д-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«4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 записываются в тетрадь (на выбор 2 зада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рисуйте кластер, который позволит увидеть композицию стихотворения (принцип Лермонтова – от широкого плана к узко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полните   таблицу примерами из стихотв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питеты, метафоры,сравнения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оворя о любви к  Родине, Лермонтов употребляет слово «странной». Почему свое чувство поэт сопровождает таким словосоче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ждый стих  в первой строфе со второй сточки начинается с отрицательной частицы. Какое чувство усиливается эти повтором и в какой строке сформулировано это состояние геро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5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  записать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Найдите градацию в стихотворении «Родина» (можно обратиться к статье в учебнике на стр. 167, или вспомнить по программе русского язы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цо  морда ха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Перечитайте статью в учебнике стр. 160-164. Просмотрите презентацию «Портреты М.Ю.Лермонтова». Найдите цитаты из статьи, иллюстрирующие душевное состояние поэта. изображенного на портр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Перечитайте статью в учебнике стр. 160-164. Как вы думаете, почему не совпали впечатления о поэте у различных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Рассмотрите портреты Лермонтова в лермонтовской энциклопедии. Какое из этих портретов больше подходит к стихотворению «Родина», аргументируйте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20:05:30Z</dcterms:created>
  <dc:creator>User</dc:creator>
  <dc:description/>
  <dc:language>en-US</dc:language>
  <cp:lastModifiedBy>Макаров</cp:lastModifiedBy>
  <dcterms:modified xsi:type="dcterms:W3CDTF">2012-12-03T05:06:41Z</dcterms:modified>
  <cp:revision>25</cp:revision>
  <dc:subject/>
  <dc:title>Тема Родины в творчестве   Михаила Юрьевича  Лермонтова</dc:title>
</cp:coreProperties>
</file>